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B22-DF3F-453F-B93C-E7BC0F68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C33-A579-4F35-A009-C8AEB831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D9F-EB93-4931-B872-907A5A09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D1D-0BD8-4B28-BAF5-C31638AA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F51-1842-45AF-A08B-AB75E88A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690-CDAB-469B-B1F8-1616AB53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87C-11B1-4CB3-9FEF-74468144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870-5599-4D30-96F1-1D3669FC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15D-ABE1-4861-84CA-9C4DEDBC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E36-6CDE-40F3-B87C-E2D82D1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A1C-5A05-4AFF-BD48-14D69334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977-13D3-45AD-BBA1-79DDED03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4CF2-67CE-4845-AF50-BA3FA9D43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о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omic Sans MS"/>
              </a:rPr>
              <a:t>Гордана Тонч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Deficit funkcije velikih vlakana (A</a:t>
            </a:r>
            <a:r>
              <a:rPr b="0" lang="el-GR" sz="22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blagog taktilnog senzibilit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pozicionog senzibilit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vibracionog senzibilit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Deficit funkcije malih vlakana (A</a:t>
            </a:r>
            <a:r>
              <a:rPr b="0" lang="el-GR" sz="2200" spc="-1" strike="noStrike">
                <a:solidFill>
                  <a:srgbClr val="000000"/>
                </a:solidFill>
                <a:latin typeface="Comic Sans MS"/>
              </a:rPr>
              <a:t>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percepcije bola i temperatu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oštar bol i hladnoć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Deficit funkcije malih vlakana (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poremećaj percepcije bola i temperature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toplo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l fantomskog u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akon amput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Bolovi, svrab u nepostojećem ekstremite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013360" y="3527280"/>
            <a:ext cx="413064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apija bola – vrlo slož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veliko neslaganje teorije i prak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očekivanja pacijen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zdravstveni radnici – neslaganje oko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pioidnih leko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toleran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zavis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eželjeni efekti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čenje nocioceptivnog b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Nesteroidni antiinflamatorni lekovi – NS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naproks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ibuprof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Neželjeni efek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G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- kardiovaskularni si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čenje neuropatskog b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ompleksno – ti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Analge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Antidepres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Antiepilep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Lokalna primena aneste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piodni analge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авобољ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Бол у гла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Јед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јчешћих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егоба</a:t>
            </a:r>
            <a:r>
              <a:rPr b="0" lang="sr-Latn-RS" sz="3200" spc="-1" strike="noStrike">
                <a:solidFill>
                  <a:srgbClr val="000000"/>
                </a:solidFill>
                <a:latin typeface="Comic Sans MS"/>
              </a:rPr>
              <a:t> u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медиц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ко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енутк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вог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живот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95%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соб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жив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Шта боли унутар лоб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тракранијал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уктур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сетљив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аз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енс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нус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з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и - глософарингеу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агу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њ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цервик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ртерије -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р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ротид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ертебралн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азилар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сов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шестоуга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Мозак није осетљив на б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ости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мају рецепторе за бол али периост кости осетљив на б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тофизиологија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в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руктур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нервисан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лимодални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оцицепторим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високог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аг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драж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оцицептор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ктивирај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еханич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ермич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емијско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имулациј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мпулс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ено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англ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н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лакн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пин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р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о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ед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ено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мпул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ентролатералн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ег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удалн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јед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рзалн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ого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рњ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ло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цервикал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ичме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жд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цицептив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формац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јекту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рој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убкортикал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егион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т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ртикал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укур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дулатор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стем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сцендент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сцендент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рш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нзитизаци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хибици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в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цицеп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Nervni sistem čoveka — Bionet Škola"/>
          <p:cNvPicPr/>
          <p:nvPr/>
        </p:nvPicPr>
        <p:blipFill>
          <a:blip r:embed="rId1"/>
          <a:stretch/>
        </p:blipFill>
        <p:spPr>
          <a:xfrm>
            <a:off x="76320" y="380880"/>
            <a:ext cx="9067680" cy="648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ol - defini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RS" sz="25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ijatn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en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zorno i emocionalno iskustv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koje je povezano s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stvarnim ili pretećim oštećenjem tkiv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Akutni bol (kraće od 2 nedelje)- pomaže opstana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Hronični bol (duže od 6 meseci)- štetno fizičko, psihičko, i socijalno dejstv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Jačina bola nije srazmerna jačini draž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Bol narušava funkciju celokupne ličnos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ификација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еђународ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ификациј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К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(14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4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екундар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8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ранијал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уралги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имар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централ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узроц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ц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13.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класификова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довољн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пецифич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е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(14.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ла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римарне главобоље - идиопатс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1. Мигр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Г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авобољ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ензионог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и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К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астер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остал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тригеминоаутономн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О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ал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Разликовање примарних главобољ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80880" y="2436840"/>
            <a:ext cx="850752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екундарне главобоље - симптоматс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traum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vaskularnih poremeća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nevaskularnih poremeća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rimene odredjih supstanc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infekci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10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oremećaja homeostaz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oremećaja vrata, lobanje, </a:t>
            </a: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očiju, ušiju, zub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12.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Glavobolje zbog psihijatrijskih poremeća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ијагностички поступ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опунск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м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често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уре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Кључ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ијагноз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детаљ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руктурира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вође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намнез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мн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Животно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доб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очетк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ећ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цен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50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ди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рганицит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Трајањ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1-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ж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раћ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алг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‹1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ачин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астанк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гл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тепе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фекц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кспанз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Локализација бо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њање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ез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њањ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цервик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ципитотемпо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уб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ну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ронт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лар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итемпор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ипертензив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ципитал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д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о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ст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ципитал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онављањ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учесталост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зодич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ронич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мар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ве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с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ип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кундар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ма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форм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браза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нтензитет бол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А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1-10)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аће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порав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дивиду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алиг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ипертенз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нингитис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брилн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упту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неуриз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валите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улсирају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брилн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хипертенз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ез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тис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бруч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бод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“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арач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к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ровоцирају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погоршавају бо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јутр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а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ћн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шаљ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нзумир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к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мирн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рат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Феномен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удружени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главобољом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ијагностичк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ритерију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марних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дром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ндром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мо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ев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треба 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латкиш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учни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враћ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от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онофоб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нзио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скуд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друже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номе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игеми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утоном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еноме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Bo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Subjektivni doživljaj na koji utiču razni faktor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kutural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sociološ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religiozni........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Psychology and chronic pain"/>
          <p:cNvPicPr/>
          <p:nvPr/>
        </p:nvPicPr>
        <p:blipFill>
          <a:blip r:embed="rId1"/>
          <a:stretch/>
        </p:blipFill>
        <p:spPr>
          <a:xfrm>
            <a:off x="3924360" y="4248000"/>
            <a:ext cx="52196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еуролошки на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већин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ормалан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оматс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Фокал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знак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ндикациј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опходан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еглед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чно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правил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виц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апил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птички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рв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дсутност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венских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улсациј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угериш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вишен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нтракранијалн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итиса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едел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к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опходн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ерењ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нтраокуларно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артеријског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итис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пунска испити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Дијагноз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тензион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основу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намнез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уредног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еуролошког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ла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кс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хормони штитне жлез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гликемиј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лцијум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реатин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ртг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ину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ликвор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умњ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АХ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енингитис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друг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нфек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дикације за допунска испити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затегну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вра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иплопи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асиметрич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рефлекс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таз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апил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змен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нтинуира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горша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ак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редан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л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јача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физички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поро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ашљ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умњ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нфекциј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ЦН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Епизод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убит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вест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друже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друже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ендокронолошки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ремећај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дикације за допунска испити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алигнитет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ИД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офибромато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л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род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навља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нтинуира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враћ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друже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хте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токсикаци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б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лоупотреб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налгет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пушт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рапиј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ад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способ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Разликовањ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рим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екунд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Анамнез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есник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ма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личн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рани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давн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има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вред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шт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олесник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ради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ад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ави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че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агл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остој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ек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оморбидитет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б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мога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бјаснит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у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Т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упал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синус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)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ли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ово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нов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прогресивна</a:t>
            </a: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Разликовањ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прим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екундар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Особин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које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упућују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органску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болест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Н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кон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изичко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по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змењен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нт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ату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аријег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50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д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горша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псерваци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атолош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т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нац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мперату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итис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вонастал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есни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рцином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јинтензивн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иво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лептич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п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гр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Хередитар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ароксизмал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ремећај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тич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једар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ожданог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таб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куп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имптом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једностра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жесто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улсирајућ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враћ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фотофоби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фонофоби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смофоб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олаз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ур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мпто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нциденц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370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100 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еваленц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10-12%  4,8%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14,6%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тињст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м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разлик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еђ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ло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Врх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еваленц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четвртој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етој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цениј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степен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п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гр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еципитирајућ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ремећај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ритм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будност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па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ипоглик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хормонск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о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утритивн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ем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алкохол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варира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гр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без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ур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обич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85%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вих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озних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често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енструално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повеза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ауром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ласич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компликова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- визуелна 99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- аудити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RS" sz="3000" spc="-1" strike="noStrike">
                <a:solidFill>
                  <a:srgbClr val="000000"/>
                </a:solidFill>
                <a:latin typeface="Comic Sans MS"/>
              </a:rPr>
              <a:t>- соматосензорна.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Компл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мигр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Хронична</a:t>
            </a:r>
            <a:r>
              <a:rPr b="1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ч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ериод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же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ц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ај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уж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ансормис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волутив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4-10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оди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ста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ш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нтензите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ањ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90%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е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бичн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грен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долесцен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80%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пресив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лоупотребљав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имптоматс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рап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леч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офилактичн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терапиј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192320" y="0"/>
            <a:ext cx="675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рапија мигр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рапија ат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рапија спречавања атака - профилак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нзиона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јчеш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зод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1-74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рон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2-3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чи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о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лови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ећ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цен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честал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пад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аре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асификац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ст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пизод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1-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ч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ронич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есеч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редиспонирајућ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акт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сихосоцијал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тресо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вакодневн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фрустр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романдибулар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исфунк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физиолошк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ложа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а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нксиозност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прес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тер главоб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чи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тврто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ецениј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шћ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ушкара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Жесто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нилате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рбит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упраорбит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емпоралн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рај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15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нута-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с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Главобољ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удруже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бар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једн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следеће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њуктив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хиперем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лакрим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зал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нгестиј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риноре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еде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п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нојење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чел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л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мио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то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осећај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емир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гит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RS" sz="2200" spc="-1" strike="noStrike">
                <a:solidFill>
                  <a:srgbClr val="000000"/>
                </a:solidFill>
                <a:latin typeface="Comic Sans MS"/>
              </a:rPr>
              <a:t> атак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ан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8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так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нев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ису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зазвани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другим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поремећајим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еуралгије главе и в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бол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дистрибуцији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појединачног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периферног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рв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без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анатомског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оштећења нер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omic Sans MS"/>
              </a:rPr>
              <a:t>Бол у виду убода који се често понавља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тригемину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Глософарингеалн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Окципитална</a:t>
            </a:r>
            <a:r>
              <a:rPr b="0" lang="sr-Latn-C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omic Sans MS"/>
              </a:rPr>
              <a:t>неуралг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Nocioceptivni bol – bol zbog oštećenja tki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somats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visceral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Neuropatski bol – oštećenj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somatosenzornog siste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perifer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- centraln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3.    Mešoviti b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nocioceptivni+ neuropats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997600" y="3713040"/>
            <a:ext cx="314640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Rezultat lezija ili oboljenja koji zahvataju somatosenzorni 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nervni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si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eriferni   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central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g_hi" descr="ANd9GcRAg3Xu3UyZmLePnON6jF-pFHzAoE0tPWWqlmFVg8reQXgQV5cNnw"/>
          <p:cNvPicPr/>
          <p:nvPr/>
        </p:nvPicPr>
        <p:blipFill>
          <a:blip r:embed="rId1"/>
          <a:stretch/>
        </p:blipFill>
        <p:spPr>
          <a:xfrm>
            <a:off x="4648320" y="3490920"/>
            <a:ext cx="449568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linički – spontani bol koji dugo tr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rovociran bol kao odgovor n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draži koje nisu bo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specifičan kvalitet b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ko prepoznati 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Pacijenti kažu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Žarenj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Paljenj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Bockanj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Lancinantni bolovi (cepajući bolov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Električni uda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Peckanj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Utrnul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Žmarc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omic Sans MS"/>
              </a:rPr>
              <a:t>Ubodi iglama .....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uropatski b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Doktori kaž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lodin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bol provociran stimulusima koji nisu bolni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(statički, dinamički, terma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Hiperalgez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pojačan bol na bolne stimuluse (mehaničk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termalni, hemijsk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Hiperpat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produžen i preteran bolni odgovor na boln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timul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arestez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Dizestez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nov kvalitet senzacija (bockanje, kao na iglam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30T06:58:00Z</dcterms:created>
  <dc:creator>Gordana Toncev</dc:creator>
  <dc:description/>
  <dc:language>en-US</dc:language>
  <cp:lastModifiedBy>Gordana Toncev</cp:lastModifiedBy>
  <dcterms:modified xsi:type="dcterms:W3CDTF">2020-09-26T09:04:19Z</dcterms:modified>
  <cp:revision>33</cp:revision>
  <dc:subject/>
  <dc:title>Бол Главобоље</dc:title>
</cp:coreProperties>
</file>